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09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148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87920-9C53-4C7E-A190-8991B19328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A7BCD-2B6C-4CB6-A0E0-33EB8563825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F3365-DF3D-4821-B7E2-745720CFD65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2AC6C-74AC-45FC-B964-C19B5951839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3E015-054C-4448-8039-5622F972173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C6282-1F06-4285-9CB2-F699BF8B383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E142F-87F1-401D-8DBA-8C56ADAAB26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2AAE1-A40B-4A23-9E24-A288D709616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5EDAE-1BD3-4D37-A521-7591F08B3F5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32878-F5E0-410C-B219-7E86ACA373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E2D93-F4C9-4D12-BA8E-E66BA3754FB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17135-FD6B-45FF-826B-A9ADF8B8835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9C102-C17D-4F8A-88F6-48F308F9AAA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5FAB6-24C7-46E4-92A7-F365C1EAA31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EE100-8470-4A58-B3E1-3766FD2771B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3DBFA-135D-4315-96A0-EB194C2A1C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E352-DBFD-45DC-AA2D-B66FC92A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5C4E3-E52E-4923-9F35-BD0D248A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8ACB-4A4A-4CD8-8549-9E8E4B8B76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772B-147E-4BF5-AEBB-E37AEF37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E160-B187-4CE8-8037-28857E01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CB464-C38D-449A-BE63-445BFE60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8930A-239A-4C72-9DFB-74C86D03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64C8-834E-4A99-8525-E8133CEC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E0830-4B85-43B4-AC25-C342F29F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DB30-B33E-4DE4-835A-AF4553A6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C5A8F-3724-46B2-9A59-CE671493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2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132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489A8D-4229-4E46-9F1A-C6C625289FD7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EL DESARROLLO EMBRION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El desarrollo embrionari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1042920" y="3787920"/>
            <a:ext cx="2087640" cy="10810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VÍPA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3490920" y="3787920"/>
            <a:ext cx="2087640" cy="10810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VÍPA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17"/>
          <p:cNvSpPr/>
          <p:nvPr/>
        </p:nvSpPr>
        <p:spPr>
          <a:xfrm>
            <a:off x="5937120" y="3781440"/>
            <a:ext cx="2087640" cy="10810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VOVIVÍPA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24000" y="5516640"/>
            <a:ext cx="280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3492360" y="1125360"/>
            <a:ext cx="2087640" cy="10796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DESARROLLO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MBRION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Agrupar 3"/>
          <p:cNvGrpSpPr/>
          <p:nvPr/>
        </p:nvGrpSpPr>
        <p:grpSpPr>
          <a:xfrm>
            <a:off x="2085840" y="2168640"/>
            <a:ext cx="4896000" cy="1628640"/>
            <a:chOff x="2085840" y="2168640"/>
            <a:chExt cx="4896000" cy="1628640"/>
          </a:xfrm>
        </p:grpSpPr>
        <p:sp>
          <p:nvSpPr>
            <p:cNvPr id="78" name="Freeform 7"/>
            <p:cNvSpPr/>
            <p:nvPr/>
          </p:nvSpPr>
          <p:spPr>
            <a:xfrm>
              <a:off x="2087280" y="3478680"/>
              <a:ext cx="4894560" cy="21960"/>
            </a:xfrm>
            <a:custGeom>
              <a:avLst/>
              <a:gdLst>
                <a:gd name="textAreaLeft" fmla="*/ 0 w 4894560"/>
                <a:gd name="textAreaRight" fmla="*/ 4894560 w 4894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596" h="63">
                  <a:moveTo>
                    <a:pt x="0" y="62"/>
                  </a:moveTo>
                  <a:lnTo>
                    <a:pt x="13595" y="0"/>
                  </a:lnTo>
                </a:path>
              </a:pathLst>
            </a:custGeom>
            <a:noFill/>
            <a:ln w="25560">
              <a:solidFill>
                <a:srgbClr val="2323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2085840" y="3489480"/>
              <a:ext cx="1440" cy="307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6" h="856">
                  <a:moveTo>
                    <a:pt x="0" y="855"/>
                  </a:moveTo>
                  <a:lnTo>
                    <a:pt x="5" y="0"/>
                  </a:lnTo>
                </a:path>
              </a:pathLst>
            </a:custGeom>
            <a:noFill/>
            <a:ln w="25560">
              <a:solidFill>
                <a:srgbClr val="2323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0"/>
            <p:cNvSpPr/>
            <p:nvPr/>
          </p:nvSpPr>
          <p:spPr>
            <a:xfrm>
              <a:off x="4533840" y="2168640"/>
              <a:ext cx="1440" cy="393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5" h="1095">
                  <a:moveTo>
                    <a:pt x="0" y="0"/>
                  </a:moveTo>
                  <a:lnTo>
                    <a:pt x="4" y="1094"/>
                  </a:lnTo>
                </a:path>
              </a:pathLst>
            </a:custGeom>
            <a:noFill/>
            <a:ln w="25560">
              <a:solidFill>
                <a:srgbClr val="2323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16"/>
            <p:cNvSpPr/>
            <p:nvPr/>
          </p:nvSpPr>
          <p:spPr>
            <a:xfrm>
              <a:off x="6980400" y="3481560"/>
              <a:ext cx="1440" cy="307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6" h="856">
                  <a:moveTo>
                    <a:pt x="0" y="855"/>
                  </a:moveTo>
                  <a:lnTo>
                    <a:pt x="5" y="0"/>
                  </a:lnTo>
                </a:path>
              </a:pathLst>
            </a:custGeom>
            <a:noFill/>
            <a:ln w="25560">
              <a:solidFill>
                <a:srgbClr val="2323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21 CuadroTexto"/>
            <p:cNvSpPr/>
            <p:nvPr/>
          </p:nvSpPr>
          <p:spPr>
            <a:xfrm>
              <a:off x="2267280" y="2637000"/>
              <a:ext cx="453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gún dónde tiene lugar, los animales pueden 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10"/>
            <p:cNvSpPr/>
            <p:nvPr/>
          </p:nvSpPr>
          <p:spPr>
            <a:xfrm>
              <a:off x="4570200" y="3395520"/>
              <a:ext cx="1440" cy="393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5" h="1095">
                  <a:moveTo>
                    <a:pt x="0" y="0"/>
                  </a:moveTo>
                  <a:lnTo>
                    <a:pt x="4" y="1094"/>
                  </a:lnTo>
                </a:path>
              </a:pathLst>
            </a:custGeom>
            <a:noFill/>
            <a:ln w="25560">
              <a:solidFill>
                <a:srgbClr val="2323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826920" y="1125360"/>
            <a:ext cx="770580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animales que nacen de huevos que la madre deposita e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medi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e caso, el embrión se alimenta del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vitel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es una reserva nutritiva propia de los hue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finalizar el desarrollo, se produce la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eclos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la rotura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nvoltura, tras la que el individuo sale al ex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 dos tipos de huev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 cáscara: propios de animales de medios acuáticos, pues en el medio terrestre se desec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 cáscara: se depositan en tierra, pues no sufren dese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ovíp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3995640" y="4724280"/>
            <a:ext cx="2519640" cy="1979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6516720" y="5084640"/>
            <a:ext cx="1979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sapos son ovíparos, y ponen sus huevos en el agua, pues éstos carecen de cáscara y se desecan en tierr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El desarrollo embrionari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structura del hue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2863800" y="1979640"/>
            <a:ext cx="2895480" cy="3816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1619280" y="296856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Embr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2268360" y="3246480"/>
            <a:ext cx="1106640" cy="722160"/>
          </a:xfrm>
          <a:custGeom>
            <a:avLst/>
            <a:gdLst>
              <a:gd name="textAreaLeft" fmla="*/ 0 w 1106640"/>
              <a:gd name="textAreaRight" fmla="*/ 1107000 w 110664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3075" h="2007">
                <a:moveTo>
                  <a:pt x="0" y="0"/>
                </a:moveTo>
                <a:lnTo>
                  <a:pt x="3074" y="200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300720" y="2133720"/>
            <a:ext cx="1395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Saco vitelino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á lleno de vitelo, que alimenta al embr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reeform 10"/>
          <p:cNvSpPr/>
          <p:nvPr/>
        </p:nvSpPr>
        <p:spPr>
          <a:xfrm>
            <a:off x="4713120" y="2697120"/>
            <a:ext cx="1594080" cy="1308240"/>
          </a:xfrm>
          <a:custGeom>
            <a:avLst/>
            <a:gdLst>
              <a:gd name="textAreaLeft" fmla="*/ 0 w 1594080"/>
              <a:gd name="textAreaRight" fmla="*/ 1594440 w 1594080"/>
              <a:gd name="textAreaTop" fmla="*/ 0 h 1308240"/>
              <a:gd name="textAreaBottom" fmla="*/ 1308600 h 1308240"/>
            </a:gdLst>
            <a:ahLst/>
            <a:rect l="textAreaLeft" t="textAreaTop" r="textAreaRight" b="textAreaBottom"/>
            <a:pathLst>
              <a:path w="4429" h="3635">
                <a:moveTo>
                  <a:pt x="4428" y="0"/>
                </a:moveTo>
                <a:lnTo>
                  <a:pt x="0" y="36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557360" y="1368360"/>
            <a:ext cx="1935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Amnios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rma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cavidad amniótica, que está llena del líquido amniótico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en que flota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embr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12"/>
          <p:cNvSpPr/>
          <p:nvPr/>
        </p:nvSpPr>
        <p:spPr>
          <a:xfrm>
            <a:off x="2863800" y="2313000"/>
            <a:ext cx="1087560" cy="75420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3022" h="2096">
                <a:moveTo>
                  <a:pt x="0" y="0"/>
                </a:moveTo>
                <a:lnTo>
                  <a:pt x="3021" y="209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39640" y="4292640"/>
            <a:ext cx="1935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Capas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actúan a modo de aparato excretor, recogiendo desechos, y a modo de aparato respiratorio, permitiendo expulsar C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y recoger 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14"/>
          <p:cNvSpPr/>
          <p:nvPr/>
        </p:nvSpPr>
        <p:spPr>
          <a:xfrm>
            <a:off x="2341440" y="4853160"/>
            <a:ext cx="1079640" cy="2552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3000" h="710">
                <a:moveTo>
                  <a:pt x="0" y="709"/>
                </a:moveTo>
                <a:lnTo>
                  <a:pt x="299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6840360" y="3959280"/>
            <a:ext cx="197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Cáscar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protege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 embrión de la desecación, pero permite el paso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y C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reeform 16"/>
          <p:cNvSpPr/>
          <p:nvPr/>
        </p:nvSpPr>
        <p:spPr>
          <a:xfrm>
            <a:off x="5654520" y="4375080"/>
            <a:ext cx="1192320" cy="131760"/>
          </a:xfrm>
          <a:custGeom>
            <a:avLst/>
            <a:gdLst>
              <a:gd name="textAreaLeft" fmla="*/ 0 w 1192320"/>
              <a:gd name="textAreaRight" fmla="*/ 1192680 w 119232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3313" h="367">
                <a:moveTo>
                  <a:pt x="3312" y="36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El desarrollo embrionari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934920" y="1347840"/>
            <a:ext cx="727236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animales que se desarrollan dentro del útero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d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mbrión se alimenta de nutrientes que la madre le aporta a través de la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placent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une a amb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finalizar el desarrollo, se produce la salida al exterior mediante el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par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vivíparos todos los mamíferos menos los monotremas (ornitorrincos y equidnas) y algunos tibur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vivíp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2160720" y="4140360"/>
            <a:ext cx="5029200" cy="2260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7199280" y="5500800"/>
            <a:ext cx="16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jabalí es un ejemplo de animal vivípar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El desarrollo embrionari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879640" y="2340000"/>
            <a:ext cx="2879640" cy="3060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l embrión en los animales vivíp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979640" y="185256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Embr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8"/>
          <p:cNvSpPr/>
          <p:nvPr/>
        </p:nvSpPr>
        <p:spPr>
          <a:xfrm>
            <a:off x="2587680" y="2130480"/>
            <a:ext cx="950760" cy="969840"/>
          </a:xfrm>
          <a:custGeom>
            <a:avLst/>
            <a:gdLst>
              <a:gd name="textAreaLeft" fmla="*/ 0 w 950760"/>
              <a:gd name="textAreaRight" fmla="*/ 951120 w 95076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2642" h="2695">
                <a:moveTo>
                  <a:pt x="0" y="0"/>
                </a:moveTo>
                <a:lnTo>
                  <a:pt x="2641" y="26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840360" y="4319640"/>
            <a:ext cx="154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Placenta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xtrae nutriente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ra el embrión de la sangre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la madr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10"/>
          <p:cNvSpPr/>
          <p:nvPr/>
        </p:nvSpPr>
        <p:spPr>
          <a:xfrm>
            <a:off x="5022720" y="4081320"/>
            <a:ext cx="1787760" cy="754200"/>
          </a:xfrm>
          <a:custGeom>
            <a:avLst/>
            <a:gdLst>
              <a:gd name="textAreaLeft" fmla="*/ 0 w 1787760"/>
              <a:gd name="textAreaRight" fmla="*/ 1788120 w 178776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4967" h="2096">
                <a:moveTo>
                  <a:pt x="4966" y="209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320840" y="4319640"/>
            <a:ext cx="155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Cordón umbilical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ne al embrión con la placen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12"/>
          <p:cNvSpPr/>
          <p:nvPr/>
        </p:nvSpPr>
        <p:spPr>
          <a:xfrm>
            <a:off x="2879640" y="3349800"/>
            <a:ext cx="1582920" cy="12747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4398" h="3542">
                <a:moveTo>
                  <a:pt x="0" y="3541"/>
                </a:moveTo>
                <a:lnTo>
                  <a:pt x="439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5519880" y="1641600"/>
            <a:ext cx="1935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Amnios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forma la cavidad amniótica, donde está el líquido amniótico en el que flota el embr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14"/>
          <p:cNvSpPr/>
          <p:nvPr/>
        </p:nvSpPr>
        <p:spPr>
          <a:xfrm>
            <a:off x="4519440" y="2340000"/>
            <a:ext cx="936720" cy="522360"/>
          </a:xfrm>
          <a:custGeom>
            <a:avLst/>
            <a:gdLst>
              <a:gd name="textAreaLeft" fmla="*/ 0 w 936720"/>
              <a:gd name="textAreaRight" fmla="*/ 937080 w 93672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2603" h="1452">
                <a:moveTo>
                  <a:pt x="2602" y="0"/>
                </a:moveTo>
                <a:lnTo>
                  <a:pt x="0" y="145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El desarrollo embrionari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1081080" y="3511440"/>
            <a:ext cx="7199280" cy="29685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934920" y="1347840"/>
            <a:ext cx="727236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animales que se desarrollan en el interior de un huevo, pero la madre lo retiene en su interior hasta la eclo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mbrión se alimenta del vitelo y se produce la eclosió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término del desarrollo, igual que en animales ovípa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ría sale viva del interior de la mad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unos tiburones, las víboras y ciertos insectos son ejemplos de animales ovovivípa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ovovivíp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7343640" y="56800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uchos tiburones son ovovivípar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El desarrollo embrionari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24:21Z</dcterms:modified>
  <cp:revision>53</cp:revision>
  <dc:subject/>
  <dc:title>Diapositiva 1</dc:title>
</cp:coreProperties>
</file>